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4.jpeg" ContentType="image/jpeg"/>
  <Override PartName="/ppt/media/image8.png" ContentType="image/png"/>
  <Override PartName="/ppt/media/image11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AE0-2348-4880-8DDA-43CF6ACB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45A1-AE70-4B93-AF2A-96C62461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2BD-23EF-4D9B-B6A3-6CEA3236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7DA8-CF27-47A8-9EBB-95ACB360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ECA-FA06-411B-9E97-62E5FFB7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7F8-54A1-4859-85C0-94B6C53A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C7D-73AF-4255-A15B-315B6742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0F8-A98B-4033-80EF-8D827E3B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48C-0F04-49CE-9FFB-33A59B20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5CF-2F80-4D29-9D78-77C53EBD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2B2-F5B3-4F44-BA15-6C6EC8AD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861-0670-4C95-9FA3-F5EF02F9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5238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66"/>
                </a:solidFill>
                <a:latin typeface="Times New Roman"/>
              </a:rPr>
              <a:t>2007 April 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57400" y="6527520"/>
            <a:ext cx="4191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66"/>
                </a:solidFill>
                <a:latin typeface="Times New Roman"/>
              </a:rPr>
              <a:t>EXPReS Annual Review: S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</a:t>
            </a:r>
            <a:fld id="{19A7A656-8E0F-4AFF-8704-DBAB75BEA7C0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A1: Production e-VLBI servic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eriod 2 Overview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rpad Szom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5105520"/>
            <a:ext cx="4419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e-VLBI to China (2)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4120" y="1362240"/>
            <a:ext cx="764064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7560" y="1755720"/>
            <a:ext cx="764208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69840" y="1908000"/>
            <a:ext cx="764244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path Sheshan (near Shanghai) – JIVE in place (via HongKong, Chicago). RTT 360 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 tests (iperf with UDP, to rule out tuning issu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ngKong – JIVE:    577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eshan – Beijing:     560 Mbps (822 Mbps with TC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ijing – HongKong: 1.85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early some investigation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6FF-F44D-4F16-8E22-A5752ABDFD0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SA1: the next 18 month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371600"/>
            <a:ext cx="7162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ll personnel in place, at JIVE and J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in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da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creasing the operational 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mproving flexibility and robustness of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w telesc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clusion of eMERLIN telesc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-assessment/refinement of 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116-9AD2-419F-AF09-D281EF7669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Specific tasks</a:t>
            </a:r>
            <a:r>
              <a:rPr b="0" lang="en-GB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30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143000"/>
            <a:ext cx="7162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ruc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ast/adaptive (re-)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ransform EVN into a truly flexible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action time of ho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mote control of widely different telescope contro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afeguard local operation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rd/software up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hase out aging Station Units, main cause of operational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volves large softwar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SI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DAF7-E6F8-42E1-A55E-EDF2A385807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Fine-tuning of deliverabl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76520"/>
            <a:ext cx="7162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WSRT synthesis data for e-VLBI calibration (absolute flux calibration, polarization calibration, source sel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craft tracking correlator m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the-fly fringe fi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download and extraction of sta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ed correlator diagno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/adding stations from the correlation process on the f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gating a 1024M sub-arr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4B8E-94F4-41E3-AC9A-437A36D3EE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Connectivity improvements: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4120" y="1362240"/>
            <a:ext cx="764064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7560" y="1755720"/>
            <a:ext cx="764208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69840" y="1908000"/>
            <a:ext cx="764244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of new/modified transport protocols, lightpaths across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rease granularity of data streams to optimize utilization of availabl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rease of sensitivity and resolution through addition of telescopes: Effelsberg, Yebes, Shangh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roving global connectivity: South-America, Puerto Rico, China,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543D-0B3B-437D-9A76-449D841E40F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Global connectivity: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4120" y="1362240"/>
            <a:ext cx="764064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5280" y="1603440"/>
            <a:ext cx="7642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560" y="1755720"/>
            <a:ext cx="764208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69840" y="1908000"/>
            <a:ext cx="764244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rmAutofit/>
          </a:bodyPr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cibo: 64 Mbps real-time operations in the past, currently &lt; 32 Mbps. New submarine cable facilities in near futu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stralia: 4 LBA telescopes connected at 1 Gbps. AARNET currently investigating  transport to Europe. Issues with format conversion, command interfaces. First test planned before summ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BA96-44E7-4D0E-8C03-0A7058C0C80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160" y="353520"/>
            <a:ext cx="7591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e-VLBI to South America: SMART-1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18240" y="1045800"/>
            <a:ext cx="374148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SMART-1 factsheet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Testing solar-electric propulsion and other deep-space technologies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Name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 SMART stands for Small Missions for Advanced Research in Technology.  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Description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 SMART-1 is the first of ESA’s Small Missions for Advanced Research in Technology. It travelled to the Moon using solar-electric propulsion and carrying a battery of miniaturised instrument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As well as testing new technology, SMART-1 is making the first comprehensive inventory of key chemical elements in the lunar surface. It is also investigating the theory that the Moon was formed following the violent collision of a smaller planet with Earth, four and a half thousand million years ago.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Launched 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27 September 2003 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Status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 Arrived in lunar orbit, 15 November 2004. Conducting lunar orbit science operations. 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 </a:t>
            </a:r>
            <a:br>
              <a:rPr sz="1000"/>
            </a:b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Notes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 SMART-1 is the first European spacecraft to travel to and orbit around the Mo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This is only the second time that ion propulsion has been used as a mission's primary propulsion system (the first was NASA's Deep Space 1 probe launched in October 199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SMART-1 is looking for water (in the form of ice) on the Mo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To save precious xenon fuel, SMART-1 uses 'celestial mechanics', that is, techniques such as making use of 'lunar resonances' and fly-bys.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0200" y="3166920"/>
            <a:ext cx="3938400" cy="2986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22360" y="1512720"/>
            <a:ext cx="2212920" cy="191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9717120" cy="2982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971800" y="3657600"/>
            <a:ext cx="3848040" cy="12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429000" y="4724280"/>
            <a:ext cx="3095640" cy="136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869A-4B34-42B6-813F-D35D7F27AE6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901960" y="1293840"/>
            <a:ext cx="5991120" cy="5043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36680" y="476280"/>
            <a:ext cx="55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imes New Roman"/>
              </a:rPr>
              <a:t>e-VLBI to South America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39720" y="2473200"/>
            <a:ext cx="4294080" cy="3264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F3A-B12A-420E-80E2-7A519B07601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6615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e-VLBI to China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371600" y="990720"/>
            <a:ext cx="6600240" cy="4902120"/>
            <a:chOff x="1371600" y="990720"/>
            <a:chExt cx="6600240" cy="49021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371600" y="990720"/>
              <a:ext cx="630720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3586320" y="4178160"/>
              <a:ext cx="544320" cy="6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067440" y="2924280"/>
              <a:ext cx="741600" cy="1011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56040" y="2392200"/>
              <a:ext cx="2998800" cy="487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587840" y="2855520"/>
              <a:ext cx="1467000" cy="2033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691000" y="2368440"/>
              <a:ext cx="341280" cy="317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48280" y="4660920"/>
              <a:ext cx="439560" cy="228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269040" y="3957480"/>
              <a:ext cx="565200" cy="113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43880" y="2494080"/>
              <a:ext cx="223560" cy="396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69440" y="2286000"/>
              <a:ext cx="654840" cy="58140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18640" y="3224160"/>
              <a:ext cx="883440" cy="58140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59240" y="2522520"/>
              <a:ext cx="985320" cy="45972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155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94200" y="2289240"/>
              <a:ext cx="1011600" cy="58140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85240" y="3075120"/>
              <a:ext cx="183960" cy="45720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50320" y="3962520"/>
              <a:ext cx="654840" cy="58140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22960" y="3807000"/>
              <a:ext cx="833040" cy="45972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50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86480" y="4732200"/>
              <a:ext cx="654840" cy="58140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31040" y="3379680"/>
              <a:ext cx="833040" cy="45972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34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56440" y="5092560"/>
              <a:ext cx="128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88000" y="5211720"/>
              <a:ext cx="12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HKOE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88400" y="4572000"/>
              <a:ext cx="88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2742840" y="1574280"/>
              <a:ext cx="3311640" cy="130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2895480" y="1219320"/>
              <a:ext cx="3098520" cy="163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56120" y="1220760"/>
              <a:ext cx="2360520" cy="45972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ORIENT: 2.5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1701720"/>
              <a:ext cx="2502000" cy="459720"/>
            </a:xfrm>
            <a:prstGeom prst="rect">
              <a:avLst/>
            </a:prstGeom>
            <a:solidFill>
              <a:srgbClr val="c0c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TEIN2: 622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5294520" y="3987720"/>
              <a:ext cx="985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4"/>
            <a:srcRect l="5208" t="10565" r="5655" b="0"/>
            <a:stretch/>
          </p:blipFill>
          <p:spPr>
            <a:xfrm>
              <a:off x="1947960" y="2300400"/>
              <a:ext cx="738360" cy="8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5"/>
            <a:stretch/>
          </p:blipFill>
          <p:spPr>
            <a:xfrm>
              <a:off x="5383440" y="1619280"/>
              <a:ext cx="71100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012440" y="3657600"/>
              <a:ext cx="88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2895480"/>
              <a:ext cx="1257480" cy="2210040"/>
            </a:xfrm>
            <a:custGeom>
              <a:avLst/>
              <a:gdLst/>
              <a:ahLst/>
              <a:rect l="l" t="t" r="r" b="b"/>
              <a:pathLst>
                <a:path w="792" h="1392">
                  <a:moveTo>
                    <a:pt x="0" y="0"/>
                  </a:moveTo>
                  <a:cubicBezTo>
                    <a:pt x="372" y="196"/>
                    <a:pt x="744" y="392"/>
                    <a:pt x="768" y="624"/>
                  </a:cubicBezTo>
                  <a:cubicBezTo>
                    <a:pt x="792" y="856"/>
                    <a:pt x="248" y="1264"/>
                    <a:pt x="144" y="139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19920" y="2895480"/>
              <a:ext cx="838080" cy="1067040"/>
            </a:xfrm>
            <a:custGeom>
              <a:avLst/>
              <a:gdLst/>
              <a:ahLst/>
              <a:rect l="l" t="t" r="r" b="b"/>
              <a:pathLst>
                <a:path w="528" h="672">
                  <a:moveTo>
                    <a:pt x="0" y="0"/>
                  </a:moveTo>
                  <a:cubicBezTo>
                    <a:pt x="4" y="184"/>
                    <a:pt x="8" y="368"/>
                    <a:pt x="96" y="480"/>
                  </a:cubicBezTo>
                  <a:cubicBezTo>
                    <a:pt x="184" y="592"/>
                    <a:pt x="356" y="632"/>
                    <a:pt x="528" y="67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705720" y="5334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- TITLE OF YOUR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0DE-4738-4B8B-AFBC-EAC661C5CB6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SENTATION 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Arpad Szomoru</dc:creator>
  <dc:description/>
  <dc:language>en-US</dc:language>
  <cp:lastModifiedBy>tcyun</cp:lastModifiedBy>
  <dcterms:modified xsi:type="dcterms:W3CDTF">2007-04-16T19:53:57Z</dcterms:modified>
  <cp:revision>45</cp:revision>
  <dc:subject/>
  <dc:title>Slide 1</dc:title>
</cp:coreProperties>
</file>